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348-1A92-4D50-8F64-46CB842F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E1A-026D-472A-8A81-B77224A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50F5D-F090-40CD-8330-27A9CB51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5BA2C-C356-4D1A-B0AF-8B24D80B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BAAA-D934-40E9-95F7-24D8080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A0D19-1D45-4008-822D-4A86550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35EC9-F059-4316-BB64-F81893D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A88DA-56BC-447C-A5F3-91D3195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3E0F9-E5CE-40C1-9613-DA392717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A1E53-C7DD-4B8B-A10B-7ABACE97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EFD7C-1041-436B-9687-75C4FA3A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21B76-62E1-4410-908D-1CE9ADAE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CE7-176A-464A-BB90-417AB0D5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ECAE-8C53-48B7-AA9E-5AC2493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42BDC-F141-4400-BBBC-C38E6E7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CDD20-79AC-45F1-A045-1EDCBAE2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0E0B6-3C02-4BB6-8D26-67009B5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5FE7-9CC7-4B1D-B6B5-D5D959C3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5439-4EAE-4AA4-938E-F895B3EA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A9647-7C5F-4B2B-8F61-0390D7C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3AB17-6833-4252-A70A-61C0CAB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AEE5D-BD43-4942-BA3D-8D52B4A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7AD3D-0D7E-41D7-949E-5895AB69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18B-DC4A-413E-86AC-6D36AF88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7F09-68C8-4C95-97D7-98E6E1A5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5AF5-1569-4771-8B39-5F578C65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30AA-A2C3-44C4-92C3-7D2E725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71C9-6679-4D92-B699-F330665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C3F-D05E-4802-99D0-1E0F8D49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15D-545C-4E7A-AD88-4086B9B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DBF8-28DA-4A2B-A7CD-6442013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09C-FAF2-4C89-88B9-0AE2CBB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C5F-E762-4118-BD0E-5860EF92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C646-B57C-47BB-AB89-18043F3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2575-7F8D-4200-977A-32688054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6B22-6109-4F29-A390-DDEF8867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18C-8AA9-4A23-899A-F131AFA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F2A-B1F6-4054-85B0-2242BF5C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9535-186D-4CE7-805A-4BAC72F5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9EBD-3E6E-4FA6-B7D5-C59A46EF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A852-01B2-46E0-9E01-4B82E322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EC87-5239-4966-B579-DE9B0A4B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B551-34F1-4557-922F-58BE64F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A14-C57F-49A1-B67F-BA6281E3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26DA-9657-4D89-9E6F-750B2A6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0058-E008-49B7-B710-13F06D9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8C55-47C1-4FAA-89F2-4A079EC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3B0F-1CE3-495A-9B1D-3117E1D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4C5E-03E4-49F1-96EC-F88E6B5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CC69-9363-4188-A01A-B2D9342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B188-4FD1-4249-9E4F-36FD6D5D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FF2E-504B-4E49-8125-5309CA97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7225-C714-4502-8874-FDF2F5E1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C8EA-787F-407F-A978-49204C52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5B1-2920-4585-8DE9-52F7C9A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817D-D5E3-42A4-9B19-9FD55C9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A387-93A5-4005-9855-39FA6D9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D9FE-05FA-4DD1-9822-344437F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8601-C8EA-4DE1-B533-F789EE8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B290-A623-45CD-B520-E751EB0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A339-2B22-47FC-8A1E-95F604D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AF75-D3A2-486C-A185-99BE917D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B96C-F73F-4836-9A99-F99CEC51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E4E7-E5D3-4000-926E-D67456C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C6C0-48A2-442C-8AAE-60523A9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9CB-6827-4CAD-90C5-F63BD08F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2DDF-FCDA-4901-AB62-1E138DF1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E234-DC9E-4925-80E1-173F5A2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8EC1-6049-401F-B2EA-6B753DB9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09BF-E14B-4624-B782-04B690F9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B1A2-EEAD-44AE-B31E-C876E321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0ED7-7163-4BE1-A7D7-694DC9D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B828-F236-403C-BEA4-5AA9D4B8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CA53-DE8F-4015-B12E-6E79067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B2566-694F-4795-8138-8F7A4A2C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B77A-CFA8-4FC8-90D7-AFED5EA4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E48-23FE-43B8-B408-6BCCF73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8FA9-E8E4-48E3-8E94-ECB2E70A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3D85C-5B7D-4E0E-B362-1068BD84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65AF7-EEA1-4752-8FA8-1BEFD37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50A0-4FF4-4A2D-B1B4-7FA879B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6A40-893E-4AC6-893C-9E46B53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A6DF3-4FF0-4D31-B06F-B753B3E2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634B-8422-49E7-BB5A-659B903F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06EB-8009-42CD-8D7C-B46EDE6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5B81-12DB-4C4E-AD6C-B786CF2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8350-AC38-4CB4-9EA4-DA46D2E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39A-937B-476D-BB45-FAFC126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CFEB-CE7D-4A33-BC3F-23F5372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3B80-CDBF-4917-9171-E0BA9FAD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00F4-A91E-405D-B428-9C12CF0E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6E41-A7A8-419D-9C76-9AAA42EF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3D68-4B32-4210-A289-3224BEBC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4013-E77F-4BA6-B689-58585709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DA229-11F1-4A31-9B97-423A1E8C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A76C-3507-499C-98AE-1CC2BF4D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1309-565A-4980-AC08-2608978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20B0-5DBC-4FFD-AD56-BE9F7978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011-664A-454E-A77B-7EBFD7A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6099-28D4-446D-9150-79079EC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5B5F-71DA-4ED8-B7A2-CB9A6C0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5E57-9CBA-4666-8E57-984AE3C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1879-AB5C-4589-B326-AE64D7C8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CEFB-1C79-4772-8CB6-8CC82CF7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1BA04-160F-43BA-8819-4DE6ACE2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A8B57-383A-42D7-80EF-789333B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0797-A6AB-4534-B118-1127682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D1B9C-5295-4F38-8E87-DF31612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7B78-8201-4A84-92B0-283817B1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CD7-A31B-452B-9A6D-5E5BE1B2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2BA2-CD1A-43BF-9CF6-E33620E8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032A3-E1CB-4CB3-9F6D-4874BA7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7FE9-F9AE-423B-875C-4D667F5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91E82-0C83-445C-BC81-65B7AD4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5323-5E50-41B7-9328-BA7FB6E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3FEF-9487-4CB0-93C8-D464828D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2008-9A4E-4D3F-BCA7-E0E5C8CD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1F5F4-B444-4CC3-9426-640EA096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35F8A-AB8E-4C5A-ABB8-AABCD29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32CBE-45D5-4206-9E54-69F6EA5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A68-4F67-4137-88A8-028166432A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2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D07-DCBB-43B2-BB42-D97D519B36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CDE-D2F8-46AF-818E-B9D302E889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5A0-59E5-42B6-8F8E-285122EB44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3544-11E1-491A-AFDC-9EE34DEE75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201-506B-4BA2-9C75-DA90253D970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1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1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2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47B0-C807-4FB0-BE08-AAC47B4567B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CAD5-E5B5-4E34-B9BA-786B845EA6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0606-A7D9-4EC7-8AB4-96F935984C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F51-B66A-4FE6-9B93-6CFA2C71DA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73;&#1077;&#1083;&#110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1;&#1080;&#1089;&#1090;&#1100;&#1103;" TargetMode="External"/><Relationship Id="rId4" Type="http://schemas.openxmlformats.org/officeDocument/2006/relationships/hyperlink" Target="http://ru.wikipedia.org/wiki/&#1062;&#1074;&#1077;&#1090;&#1099;" TargetMode="External"/><Relationship Id="rId5" Type="http://schemas.openxmlformats.org/officeDocument/2006/relationships/hyperlink" Target="http://ru.wikipedia.org/wiki/&#1051;&#1077;&#1087;&#1077;&#1089;&#1090;&#1086;&#1082;" TargetMode="External"/><Relationship Id="rId6" Type="http://schemas.openxmlformats.org/officeDocument/2006/relationships/hyperlink" Target="http://ru.wikipedia.org/wiki/&#1063;&#1072;&#1096;&#1077;&#1083;&#1080;&#1089;&#1090;&#1080;&#1082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&#1052;&#1085;&#1086;&#1075;&#1086;&#1083;&#1077;&#1090;&#1085;&#1080;&#1077;_&#1088;&#1072;&#1089;&#1090;&#1077;&#1085;&#1080;&#1103;" TargetMode="External"/><Relationship Id="rId3" Type="http://schemas.openxmlformats.org/officeDocument/2006/relationships/hyperlink" Target="http://ru.wikipedia.org/wiki/&#1042;&#1086;&#1076;&#1085;&#1099;&#1077;_&#1088;&#1072;&#1089;&#1090;&#1077;&#1085;&#1080;&#1103;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Аквариумные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растения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Выполнила : Алексеева И.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тудентка 636г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Элодея</a:t>
            </a:r>
            <a:r>
              <a:rPr b="0" lang="en-US" sz="30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776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ускает длинные, сильно разветвлённые </a:t>
            </a: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 Unicode MS"/>
                <a:hlinkClick r:id="rId1"/>
              </a:rPr>
              <a:t>стебл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, растущие чрезвычайно быстро и достигающие нередко длины более двух ме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Листочки ярко-зелёные, прозрачные, от продолговато-яйцевидных до линейно-ланцетных, слегка курчавые, острые, по килю мелкопильчатые. В макушечных частях стебля листочки бывают всегда светлее окраской, нежели в ниж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605480" y="1447920"/>
            <a:ext cx="377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275px-ElodeaCanadensis" descr="Элодея канадская"/>
          <p:cNvPicPr/>
          <p:nvPr/>
        </p:nvPicPr>
        <p:blipFill>
          <a:blip r:embed="rId2"/>
          <a:stretch/>
        </p:blipFill>
        <p:spPr>
          <a:xfrm>
            <a:off x="5029200" y="1371600"/>
            <a:ext cx="3000240" cy="38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Unicode MS"/>
              </a:rPr>
              <a:t>Кабомб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1"/>
              </a:rPr>
              <a:t>Корневище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его ползучее, стелющееся, пускающее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2"/>
              </a:rPr>
              <a:t>стебл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из уз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Главную оригинальность кабомбы представляют её подводные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3"/>
              </a:rPr>
              <a:t>листья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, которые не цельные, а веерообразные, мелкорассеч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4"/>
              </a:rPr>
              <a:t>Цветы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небольшие, серебристо-белые с жёлтой серединой или просто желтоватые с тремя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5"/>
              </a:rPr>
              <a:t>лепестк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и треми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6"/>
              </a:rPr>
              <a:t>чашелистик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Цветение происходит ранней весной, в апреле или м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Кабомба водная"/>
          <p:cNvPicPr/>
          <p:nvPr/>
        </p:nvPicPr>
        <p:blipFill>
          <a:blip r:embed="rId7"/>
          <a:stretch/>
        </p:blipFill>
        <p:spPr>
          <a:xfrm>
            <a:off x="5029200" y="1752480"/>
            <a:ext cx="3689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Роголистник</a:t>
            </a:r>
            <a:r>
              <a:rPr b="0" lang="en-US" sz="3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267080" y="14479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линностебельное растение с игольчатыми листьями темно-зеленого цвета и красноватыми стеблями. Растет в толще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растение достаточно светолюб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доросли на его листьях поселяются ред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Роголистник темно-зеленый (Ceratophyllum demersum)"/>
          <p:cNvPicPr/>
          <p:nvPr/>
        </p:nvPicPr>
        <p:blipFill>
          <a:blip r:embed="rId1"/>
          <a:stretch/>
        </p:blipFill>
        <p:spPr>
          <a:xfrm>
            <a:off x="736560" y="1523880"/>
            <a:ext cx="34671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Unicode MS"/>
              </a:rPr>
              <a:t>Риччи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62520" y="144792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ччия плавающая относится к моховидными из группы печен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у мхов, ни настоящих побегов, ни корней у нее нет. Плавая у самой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разраст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высота: 1 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местообит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чие воды, размещение: закрепите на опоре или оставьте пл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Риччия"/>
          <p:cNvPicPr/>
          <p:nvPr/>
        </p:nvPicPr>
        <p:blipFill>
          <a:blip r:embed="rId1"/>
          <a:stretch/>
        </p:blipFill>
        <p:spPr>
          <a:xfrm>
            <a:off x="380880" y="1828800"/>
            <a:ext cx="35816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убышк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114800" y="17524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М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 Unicode MS"/>
                <a:hlinkClick r:id="rId2"/>
              </a:rPr>
              <a:t>ноголетне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 Unicode MS"/>
                <a:hlinkClick r:id="rId3"/>
              </a:rPr>
              <a:t>водно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 растение с длинным толстым мясистым горизонтальным корневищ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лавающие на поверхности воды листья плотные тёмно-зелёные. Листья, находящиеся в толще воды, — полупрозра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Цветки крупные жёлтые, сидят на выдающихся из воды цветоно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лод с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Растение может цвести всё л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23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275px-Nuphar_lutea_170803" descr="Кубышка жёлтая"/>
          <p:cNvPicPr/>
          <p:nvPr/>
        </p:nvPicPr>
        <p:blipFill>
          <a:blip r:embed="rId4"/>
          <a:stretch/>
        </p:blipFill>
        <p:spPr>
          <a:xfrm>
            <a:off x="762120" y="19051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ctr">
              <a:lnSpc>
                <a:spcPct val="80000"/>
              </a:lnSpc>
              <a:spcBef>
                <a:spcPts val="24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Спасибо за 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внимание!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вариумные раст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необходимый элемент любого аквар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ышные заросли водных растений, располагаясь в толще воды, создают новые специфические возможности пространственной аранжировки, присущие только водной стихи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Аквариумные раст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Устанавливают биологическое равновесие водной среды, обогащают воду кислородом, играют важную роль в обмене веществ, необходимых для жизнедеятельности рыб и сами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2080" y="637920"/>
            <a:ext cx="8064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начение растений для аквариумных ры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Для растительноядных рыб водоросли являются основной пищей, а для всеядных - витаминной добавкой в рационе. Растения, приближая аквариум к более естественной среде обитания, побуждают рыб к более полному проявлению особенностей их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квариумные растения следует подбирать с учетом особенностей условий, в которых они будут разви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одержание распространенных аквариумных растен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Плавающие на поверхности вод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они охраняют аквариум от чрезмерно яркого солнечного света, служат местом нереста многих рыб, способствуют биологическому равновесию в искусственном водо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1760" y="-26784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Плавающие в толще вод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ктивно насыщают воду кислородом, служат местом нерестилища и укрытием для мальков, а для некоторых видов рыб даже пищевой добав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Нуждаются в фильтрации воды, так как чувствительны к загрязнению своих листьев и к перепаду температ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-23004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Укореняющиеся в грун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Для этих растений характерно хорошее развитие корнев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ни имеют плотное корневище и хорошо развитые листья. Для этих растений необходим слой грунта в 5-10 с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 Unicode MS"/>
              </a:rPr>
              <a:t>Людвигия ползучая</a:t>
            </a:r>
            <a:r>
              <a:rPr b="1" lang="ru-RU" sz="3900" spc="-1" strike="noStrike">
                <a:solidFill>
                  <a:srgbClr val="330066"/>
                </a:solidFill>
                <a:latin typeface="Arial Unicode MS"/>
              </a:rPr>
              <a:t> (Ludwigia repens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растения с прямостоячим или горизонтально растущим стеблем и супротивным или очередным листорасполо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е высотой до 50 см с удлиненным прямостоячим стеблем, дающим много боковых побегов, растет в болотах и под водой в южной части Северной Америки, в Центральной Америке и на Больших Антильских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Людвигия ползучая. Видовой аквариум с кардиналами"/>
          <p:cNvPicPr/>
          <p:nvPr/>
        </p:nvPicPr>
        <p:blipFill>
          <a:blip r:embed="rId1"/>
          <a:stretch/>
        </p:blipFill>
        <p:spPr>
          <a:xfrm>
            <a:off x="5175360" y="1905120"/>
            <a:ext cx="2992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яс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Представители рода — крохотные многолетние растеньица, плавающие обыкновенно в большом количестве на поверхности стоячих в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Цветут они крайне ред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Цветки мелкие, невзрачные, однополые, появляются в кармаш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0288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275px-Eendekroos_dicht_bijeen" descr="Lemna minor"/>
          <p:cNvPicPr/>
          <p:nvPr/>
        </p:nvPicPr>
        <p:blipFill>
          <a:blip r:embed="rId1"/>
          <a:stretch/>
        </p:blipFill>
        <p:spPr>
          <a:xfrm>
            <a:off x="5105520" y="198108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га</cp:lastModifiedBy>
  <dcterms:modified xsi:type="dcterms:W3CDTF">2010-06-06T15:51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